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B1C-B3B6-4F93-B63C-12B13C0E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58C-5EAE-4107-8109-E565FD7C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29E-CA57-494A-9248-9D62CBF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38E-5598-4E75-9B14-E14B15A0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6D2-790F-44EE-9B3A-B0987263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C15-ED91-4D5F-BDA3-2818718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BC9-42CE-42D0-8BCB-93D3484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935-3786-4254-8834-DDA6CD5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78A-F0B6-4FD2-B136-7D1BD91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535-ED8B-4D1B-950C-ADD4AAC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676-BAD0-4564-A728-BF08CC85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8E4-0286-4F42-B02D-37C2D0D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1B94A1-5DB0-4792-B7B4-D59D96902D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ueba del ejercicio práctico del módul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44:08Z</dcterms:created>
  <dc:creator>L00507939</dc:creator>
  <dc:description/>
  <dc:language>en-US</dc:language>
  <cp:lastModifiedBy>L00507939</cp:lastModifiedBy>
  <dcterms:modified xsi:type="dcterms:W3CDTF">2008-07-28T02:44:24Z</dcterms:modified>
  <cp:revision>1</cp:revision>
  <dc:subject/>
  <dc:title>Prueba del ejercicio práctico del módulo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